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ABE-88E9-4E03-824B-712BFE5C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CAC-C0FF-41FF-B2D6-E98CEBAD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622-A345-4E58-83BB-F01D43FF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9BB-E7C6-4389-9D0A-D20B6B9E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E8D-029D-4E41-8387-1259EA6B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13A-2A6A-4684-9E25-B44CDF0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E7D-F0FF-4C5D-A3BC-241E5693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51D-130C-4E01-9F89-1D35AC83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13D-C960-41F5-8D39-9825965B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86E-4E42-464F-9B5E-2AD69539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6B6-D928-43C7-ADC6-E154BD75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628-D95F-4414-B258-5EB62486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B961-6D9B-46F1-AD98-F48594A14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914400" y="762120"/>
            <a:ext cx="78487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a rout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371600" y="3886200"/>
            <a:ext cx="632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ar: Regiene V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ren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on 3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457200" y="304920"/>
            <a:ext cx="8229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 rente a mais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Picture 5" descr="j0185604"/>
          <p:cNvPicPr/>
          <p:nvPr/>
        </p:nvPicPr>
        <p:blipFill>
          <a:blip r:embed="rId1"/>
          <a:stretch/>
        </p:blipFill>
        <p:spPr>
          <a:xfrm>
            <a:off x="3825720" y="1676520"/>
            <a:ext cx="4869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fais 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irs 4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e fais mes devoi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6" descr="homework5%5B1%5D"/>
          <p:cNvPicPr/>
          <p:nvPr/>
        </p:nvPicPr>
        <p:blipFill>
          <a:blip r:embed="rId1"/>
          <a:stretch/>
        </p:blipFill>
        <p:spPr>
          <a:xfrm>
            <a:off x="2895480" y="1523880"/>
            <a:ext cx="579132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me leve et 6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762120" y="228600"/>
            <a:ext cx="784836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Je me le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8" name="Picture 6" descr="41"/>
          <p:cNvPicPr/>
          <p:nvPr/>
        </p:nvPicPr>
        <p:blipFill>
          <a:blip r:embed="rId1"/>
          <a:stretch/>
        </p:blipFill>
        <p:spPr>
          <a:xfrm>
            <a:off x="6019920" y="1676520"/>
            <a:ext cx="27525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e reveille et 6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457200" y="533520"/>
            <a:ext cx="82296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Je me reveil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2" name="Picture 6" descr="62_opstaan"/>
          <p:cNvPicPr/>
          <p:nvPr/>
        </p:nvPicPr>
        <p:blipFill>
          <a:blip r:embed="rId1"/>
          <a:stretch/>
        </p:blipFill>
        <p:spPr>
          <a:xfrm>
            <a:off x="44956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e brosse 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s et 6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57200" y="304920"/>
            <a:ext cx="830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Je me brosse les d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56" name="Picture 6" descr="tandenpoetsen1"/>
          <p:cNvPicPr/>
          <p:nvPr/>
        </p:nvPicPr>
        <p:blipFill>
          <a:blip r:embed="rId3"/>
          <a:stretch/>
        </p:blipFill>
        <p:spPr>
          <a:xfrm>
            <a:off x="4114800" y="1600200"/>
            <a:ext cx="45338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: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838080" y="4572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Je m'habill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0" name="Picture 6" descr="aankleed_dossierplaatje_tcm42-263877"/>
          <p:cNvPicPr/>
          <p:nvPr/>
        </p:nvPicPr>
        <p:blipFill>
          <a:blip r:embed="rId3"/>
          <a:stretch/>
        </p:blipFill>
        <p:spPr>
          <a:xfrm>
            <a:off x="3352680" y="1600200"/>
            <a:ext cx="532476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e 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: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dyn005_original_474_274_jpeg_2604217_78efbabccd998119e940f5b0f1009550"/>
          <p:cNvPicPr/>
          <p:nvPr/>
        </p:nvPicPr>
        <p:blipFill>
          <a:blip r:embed="rId1"/>
          <a:stretch/>
        </p:blipFill>
        <p:spPr>
          <a:xfrm>
            <a:off x="3048120" y="1600200"/>
            <a:ext cx="5657760" cy="327024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53352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Je me lav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ors 7: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MCBD08635_0000[1]"/>
          <p:cNvPicPr/>
          <p:nvPr/>
        </p:nvPicPr>
        <p:blipFill>
          <a:blip r:embed="rId1"/>
          <a:stretch/>
        </p:blipFill>
        <p:spPr>
          <a:xfrm>
            <a:off x="5194440" y="1600200"/>
            <a:ext cx="353052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457200" y="304920"/>
            <a:ext cx="8229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Je sor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prends 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dejeu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457200" y="304920"/>
            <a:ext cx="8229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e prends le petit dejeun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Picture 6" descr="ontbijt"/>
          <p:cNvPicPr/>
          <p:nvPr/>
        </p:nvPicPr>
        <p:blipFill>
          <a:blip r:embed="rId1"/>
          <a:stretch/>
        </p:blipFill>
        <p:spPr>
          <a:xfrm>
            <a:off x="3657600" y="16002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457200" y="304920"/>
            <a:ext cx="815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Je vais au colleg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7200" y="1752480"/>
            <a:ext cx="8305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 va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 col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: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MCj04109110000[1]"/>
          <p:cNvPicPr/>
          <p:nvPr/>
        </p:nvPicPr>
        <p:blipFill>
          <a:blip r:embed="rId1"/>
          <a:stretch/>
        </p:blipFill>
        <p:spPr>
          <a:xfrm>
            <a:off x="3124080" y="1523880"/>
            <a:ext cx="55008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16:37Z</dcterms:created>
  <dc:creator>Administrator</dc:creator>
  <dc:description/>
  <dc:language>en-US</dc:language>
  <cp:lastModifiedBy>Michelle.Doucett</cp:lastModifiedBy>
  <dcterms:modified xsi:type="dcterms:W3CDTF">2009-07-20T14:38:07Z</dcterms:modified>
  <cp:revision>4</cp:revision>
  <dc:subject/>
  <dc:title>Slide 1</dc:title>
</cp:coreProperties>
</file>